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62AD-6A45-400B-AAEA-700C918D0F4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261C22-9E85-4237-9318-BAA3794C3C3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A5B34E-789C-4048-AFC9-5FFAC3461C4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C620-EFA8-45C9-9569-A2651DC1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C666-64CA-421A-814F-86BC89A8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2AF9-29E3-4C4E-AE04-559CC287C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A509-7053-40C0-9FDE-80709988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41D3-14D8-4BBF-B98E-2E82C9D2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ADD6-20AD-4228-98E8-9ED176ED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4DA0-9E65-4269-A097-C8F773CA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0F62-C4D3-42BF-85C2-B68AF957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32B9-9E03-4B7D-AE9C-F7DE8FD7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7A0D-181B-49C1-BE82-210B6C0D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FABE-7FBD-4C18-8CAE-1BB375D5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B2FF-AEDA-4E3B-9783-B7ADB1FF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047D-10FD-449C-865D-D473FFC2B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08440" y="51444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［１］課題発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23840" y="826920"/>
            <a:ext cx="2879640" cy="5612040"/>
          </a:xfrm>
          <a:prstGeom prst="rect">
            <a:avLst/>
          </a:prstGeom>
          <a:noFill/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147840" y="817560"/>
            <a:ext cx="2880000" cy="56386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172200" y="798480"/>
            <a:ext cx="2863800" cy="56786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95200" y="87480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１．社会環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07800" y="278280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３．競合動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492480" y="3978360"/>
            <a:ext cx="139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４．貴社状況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  <a:ea typeface="HGP教科書体"/>
              </a:rPr>
              <a:t>（社内提案は自社状況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271440" y="1128600"/>
            <a:ext cx="2660760" cy="549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285840" y="1982880"/>
            <a:ext cx="2646360" cy="7635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3292560" y="3002040"/>
            <a:ext cx="2590560" cy="118584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320760" y="4230720"/>
            <a:ext cx="2611440" cy="671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3334320" y="51264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［２］基本戦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6293880" y="49356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［３］解決策展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507120" y="86832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１．目的・狙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3262320" y="178272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２．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3392640" y="27352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３．基本方針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HGP教科書体"/>
              </a:rPr>
              <a:t>（名称含む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3324960" y="4183200"/>
            <a:ext cx="8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４．提案のポイ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3292560" y="4398840"/>
            <a:ext cx="2663640" cy="1947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301680" y="3002040"/>
            <a:ext cx="2630520" cy="9367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1"/>
          <p:cNvSpPr/>
          <p:nvPr/>
        </p:nvSpPr>
        <p:spPr>
          <a:xfrm>
            <a:off x="3292560" y="2014560"/>
            <a:ext cx="2663640" cy="6858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3292560" y="1079640"/>
            <a:ext cx="2663640" cy="6858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6237360" y="84924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１．実施方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6930000" y="3994200"/>
            <a:ext cx="112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２．展開スケジュール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  <a:ea typeface="HGP教科書体"/>
              </a:rPr>
              <a:t>（準備、実施期間を、フォローも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5"/>
          <p:cNvSpPr/>
          <p:nvPr/>
        </p:nvSpPr>
        <p:spPr>
          <a:xfrm>
            <a:off x="6272280" y="1076400"/>
            <a:ext cx="2636640" cy="2895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6"/>
          <p:cNvSpPr/>
          <p:nvPr/>
        </p:nvSpPr>
        <p:spPr>
          <a:xfrm>
            <a:off x="6272280" y="4249800"/>
            <a:ext cx="2636640" cy="673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430920" y="505152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５．問題点要約と課題発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8"/>
          <p:cNvSpPr/>
          <p:nvPr/>
        </p:nvSpPr>
        <p:spPr>
          <a:xfrm>
            <a:off x="263520" y="5267160"/>
            <a:ext cx="2649600" cy="1105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9"/>
          <p:cNvSpPr/>
          <p:nvPr/>
        </p:nvSpPr>
        <p:spPr>
          <a:xfrm>
            <a:off x="6259320" y="504180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３．費用・効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>
            <a:off x="3360600" y="463860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1"/>
          <p:cNvSpPr/>
          <p:nvPr/>
        </p:nvSpPr>
        <p:spPr>
          <a:xfrm>
            <a:off x="3314160" y="4416480"/>
            <a:ext cx="2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2"/>
          <p:cNvSpPr/>
          <p:nvPr/>
        </p:nvSpPr>
        <p:spPr>
          <a:xfrm>
            <a:off x="3336840" y="52862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3"/>
          <p:cNvSpPr/>
          <p:nvPr/>
        </p:nvSpPr>
        <p:spPr>
          <a:xfrm>
            <a:off x="3319200" y="5064120"/>
            <a:ext cx="2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4"/>
          <p:cNvSpPr/>
          <p:nvPr/>
        </p:nvSpPr>
        <p:spPr>
          <a:xfrm>
            <a:off x="3336840" y="59342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5"/>
          <p:cNvSpPr/>
          <p:nvPr/>
        </p:nvSpPr>
        <p:spPr>
          <a:xfrm>
            <a:off x="3319200" y="5711760"/>
            <a:ext cx="2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6"/>
          <p:cNvSpPr/>
          <p:nvPr/>
        </p:nvSpPr>
        <p:spPr>
          <a:xfrm>
            <a:off x="7180200" y="4232160"/>
            <a:ext cx="0" cy="67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7"/>
          <p:cNvSpPr/>
          <p:nvPr/>
        </p:nvSpPr>
        <p:spPr>
          <a:xfrm>
            <a:off x="6316560" y="44053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8"/>
          <p:cNvSpPr/>
          <p:nvPr/>
        </p:nvSpPr>
        <p:spPr>
          <a:xfrm>
            <a:off x="6307200" y="13208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9"/>
          <p:cNvSpPr/>
          <p:nvPr/>
        </p:nvSpPr>
        <p:spPr>
          <a:xfrm>
            <a:off x="6270120" y="1098720"/>
            <a:ext cx="2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0"/>
          <p:cNvSpPr/>
          <p:nvPr/>
        </p:nvSpPr>
        <p:spPr>
          <a:xfrm>
            <a:off x="6283440" y="2216160"/>
            <a:ext cx="136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1"/>
          <p:cNvSpPr/>
          <p:nvPr/>
        </p:nvSpPr>
        <p:spPr>
          <a:xfrm>
            <a:off x="6265440" y="1994040"/>
            <a:ext cx="2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2"/>
          <p:cNvSpPr/>
          <p:nvPr/>
        </p:nvSpPr>
        <p:spPr>
          <a:xfrm>
            <a:off x="6283440" y="3079800"/>
            <a:ext cx="136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3"/>
          <p:cNvSpPr/>
          <p:nvPr/>
        </p:nvSpPr>
        <p:spPr>
          <a:xfrm>
            <a:off x="6265440" y="2857680"/>
            <a:ext cx="2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4"/>
          <p:cNvSpPr/>
          <p:nvPr/>
        </p:nvSpPr>
        <p:spPr>
          <a:xfrm>
            <a:off x="6445080" y="4387680"/>
            <a:ext cx="59220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準備期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実施期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フォロー期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5"/>
          <p:cNvSpPr/>
          <p:nvPr/>
        </p:nvSpPr>
        <p:spPr>
          <a:xfrm>
            <a:off x="3435480" y="32702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6"/>
          <p:cNvSpPr/>
          <p:nvPr/>
        </p:nvSpPr>
        <p:spPr>
          <a:xfrm>
            <a:off x="377640" y="173052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２．市場・生活者動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7"/>
          <p:cNvSpPr/>
          <p:nvPr/>
        </p:nvSpPr>
        <p:spPr>
          <a:xfrm>
            <a:off x="7540560" y="42465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8"/>
          <p:cNvSpPr/>
          <p:nvPr/>
        </p:nvSpPr>
        <p:spPr>
          <a:xfrm>
            <a:off x="7891560" y="42163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9"/>
          <p:cNvSpPr/>
          <p:nvPr/>
        </p:nvSpPr>
        <p:spPr>
          <a:xfrm>
            <a:off x="8242200" y="42321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0"/>
          <p:cNvSpPr/>
          <p:nvPr/>
        </p:nvSpPr>
        <p:spPr>
          <a:xfrm>
            <a:off x="8582040" y="42321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1"/>
          <p:cNvSpPr/>
          <p:nvPr/>
        </p:nvSpPr>
        <p:spPr>
          <a:xfrm>
            <a:off x="1642680" y="6543720"/>
            <a:ext cx="9500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※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添付資料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補足する資料などがあれば、タイトルを明記し、資料を添付する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2"/>
          <p:cNvSpPr/>
          <p:nvPr/>
        </p:nvSpPr>
        <p:spPr>
          <a:xfrm>
            <a:off x="2922480" y="2324160"/>
            <a:ext cx="212760" cy="2666880"/>
          </a:xfrm>
          <a:prstGeom prst="rightArrow">
            <a:avLst>
              <a:gd name="adj1" fmla="val 50000"/>
              <a:gd name="adj2" fmla="val 62685"/>
            </a:avLst>
          </a:prstGeom>
          <a:gradFill rotWithShape="0">
            <a:gsLst>
              <a:gs pos="0">
                <a:srgbClr val="bbe0e3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3"/>
          <p:cNvSpPr/>
          <p:nvPr/>
        </p:nvSpPr>
        <p:spPr>
          <a:xfrm>
            <a:off x="573840" y="5245200"/>
            <a:ext cx="16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現状分析に基づく問題点を明確にする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4"/>
          <p:cNvSpPr/>
          <p:nvPr/>
        </p:nvSpPr>
        <p:spPr>
          <a:xfrm>
            <a:off x="473040" y="5410080"/>
            <a:ext cx="123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問題点から課題を抽出する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5"/>
          <p:cNvSpPr/>
          <p:nvPr/>
        </p:nvSpPr>
        <p:spPr>
          <a:xfrm>
            <a:off x="728640" y="109872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提案の裏付けとなった社会環境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ポイントを絞って分かりやすく、箇条書きに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6"/>
          <p:cNvSpPr/>
          <p:nvPr/>
        </p:nvSpPr>
        <p:spPr>
          <a:xfrm>
            <a:off x="599760" y="1998720"/>
            <a:ext cx="174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提案の裏付けとなった市場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生活者動向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ポイントを絞って分かりやすく、箇条書きに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7"/>
          <p:cNvSpPr/>
          <p:nvPr/>
        </p:nvSpPr>
        <p:spPr>
          <a:xfrm>
            <a:off x="695160" y="304164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提案の裏付けとなった競合動向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ポイントを絞って分かりやすく、箇条書きに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8"/>
          <p:cNvSpPr/>
          <p:nvPr/>
        </p:nvSpPr>
        <p:spPr>
          <a:xfrm>
            <a:off x="695160" y="4237200"/>
            <a:ext cx="139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提案の裏付けとなった貴社状況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ポイントを絞って分かりやすく、箇条書きに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9"/>
          <p:cNvSpPr/>
          <p:nvPr/>
        </p:nvSpPr>
        <p:spPr>
          <a:xfrm>
            <a:off x="3585240" y="3035160"/>
            <a:ext cx="131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提案名は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教科書体"/>
              </a:rPr>
              <a:t>魅力的な言葉で短く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0"/>
          <p:cNvSpPr/>
          <p:nvPr/>
        </p:nvSpPr>
        <p:spPr>
          <a:xfrm>
            <a:off x="4173840" y="2000160"/>
            <a:ext cx="42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狙う対象を属性、生活レベル、趣味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ライフスタイル、所有関連などから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1"/>
          <p:cNvSpPr/>
          <p:nvPr/>
        </p:nvSpPr>
        <p:spPr>
          <a:xfrm>
            <a:off x="3458160" y="106668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ポイントを絞って分かりやすく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2"/>
          <p:cNvSpPr/>
          <p:nvPr/>
        </p:nvSpPr>
        <p:spPr>
          <a:xfrm>
            <a:off x="3448800" y="461952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ポイントを絞って分かりやすく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3"/>
          <p:cNvSpPr/>
          <p:nvPr/>
        </p:nvSpPr>
        <p:spPr>
          <a:xfrm>
            <a:off x="3707640" y="4408560"/>
            <a:ext cx="140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教科書体"/>
              </a:rPr>
              <a:t>（具体的な提案名を提案名と連動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4"/>
          <p:cNvSpPr/>
          <p:nvPr/>
        </p:nvSpPr>
        <p:spPr>
          <a:xfrm>
            <a:off x="3472560" y="326556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ポイントを絞って分かりやすく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5"/>
          <p:cNvSpPr/>
          <p:nvPr/>
        </p:nvSpPr>
        <p:spPr>
          <a:xfrm>
            <a:off x="3729960" y="5051520"/>
            <a:ext cx="140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教科書体"/>
              </a:rPr>
              <a:t>（具体的な提案名を提案名と連動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6"/>
          <p:cNvSpPr/>
          <p:nvPr/>
        </p:nvSpPr>
        <p:spPr>
          <a:xfrm>
            <a:off x="3458160" y="527688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ポイントを絞って分かりやすく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7"/>
          <p:cNvSpPr/>
          <p:nvPr/>
        </p:nvSpPr>
        <p:spPr>
          <a:xfrm>
            <a:off x="3755160" y="5699160"/>
            <a:ext cx="140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教科書体"/>
              </a:rPr>
              <a:t>（具体的な提案名を提案名と連動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8"/>
          <p:cNvSpPr/>
          <p:nvPr/>
        </p:nvSpPr>
        <p:spPr>
          <a:xfrm>
            <a:off x="3458160" y="592452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ポイントを絞って分かりやすく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9"/>
          <p:cNvSpPr/>
          <p:nvPr/>
        </p:nvSpPr>
        <p:spPr>
          <a:xfrm>
            <a:off x="6555600" y="108108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教科書体"/>
              </a:rPr>
              <a:t>（具体的な提案名を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0"/>
          <p:cNvSpPr/>
          <p:nvPr/>
        </p:nvSpPr>
        <p:spPr>
          <a:xfrm>
            <a:off x="6566040" y="1306440"/>
            <a:ext cx="177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実施内容をポイントを絞って分かりやすく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1"/>
          <p:cNvSpPr/>
          <p:nvPr/>
        </p:nvSpPr>
        <p:spPr>
          <a:xfrm>
            <a:off x="6566040" y="2224080"/>
            <a:ext cx="177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実施内容をポイントを絞って分かりやすく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2"/>
          <p:cNvSpPr/>
          <p:nvPr/>
        </p:nvSpPr>
        <p:spPr>
          <a:xfrm>
            <a:off x="6566040" y="3087720"/>
            <a:ext cx="177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実施内容をポイントを絞って分かりやすく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3"/>
          <p:cNvSpPr/>
          <p:nvPr/>
        </p:nvSpPr>
        <p:spPr>
          <a:xfrm>
            <a:off x="6560280" y="199404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教科書体"/>
              </a:rPr>
              <a:t>（具体的な提案名を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4"/>
          <p:cNvSpPr/>
          <p:nvPr/>
        </p:nvSpPr>
        <p:spPr>
          <a:xfrm>
            <a:off x="6570000" y="283356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教科書体"/>
              </a:rPr>
              <a:t>（具体的な提案名を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6"/>
          <p:cNvSpPr/>
          <p:nvPr/>
        </p:nvSpPr>
        <p:spPr>
          <a:xfrm>
            <a:off x="6243480" y="5267160"/>
            <a:ext cx="2665440" cy="1151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7"/>
          <p:cNvSpPr/>
          <p:nvPr/>
        </p:nvSpPr>
        <p:spPr>
          <a:xfrm rot="10800000">
            <a:off x="771120" y="4935240"/>
            <a:ext cx="1405080" cy="1364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8"/>
          <p:cNvSpPr/>
          <p:nvPr/>
        </p:nvSpPr>
        <p:spPr>
          <a:xfrm rot="10800000">
            <a:off x="6943320" y="4970160"/>
            <a:ext cx="1405080" cy="1364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9"/>
          <p:cNvSpPr/>
          <p:nvPr/>
        </p:nvSpPr>
        <p:spPr>
          <a:xfrm>
            <a:off x="5965920" y="2314440"/>
            <a:ext cx="212760" cy="2667240"/>
          </a:xfrm>
          <a:prstGeom prst="rightArrow">
            <a:avLst>
              <a:gd name="adj1" fmla="val 50000"/>
              <a:gd name="adj2" fmla="val 62685"/>
            </a:avLst>
          </a:prstGeom>
          <a:gradFill rotWithShape="0">
            <a:gsLst>
              <a:gs pos="0">
                <a:srgbClr val="bbe0e3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0"/>
          <p:cNvSpPr/>
          <p:nvPr/>
        </p:nvSpPr>
        <p:spPr>
          <a:xfrm>
            <a:off x="6341760" y="5254560"/>
            <a:ext cx="62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概算費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1"/>
          <p:cNvSpPr/>
          <p:nvPr/>
        </p:nvSpPr>
        <p:spPr>
          <a:xfrm>
            <a:off x="6332400" y="5908680"/>
            <a:ext cx="62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効果予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2"/>
          <p:cNvSpPr/>
          <p:nvPr/>
        </p:nvSpPr>
        <p:spPr>
          <a:xfrm>
            <a:off x="6397560" y="5483160"/>
            <a:ext cx="2367000" cy="432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3"/>
          <p:cNvSpPr/>
          <p:nvPr/>
        </p:nvSpPr>
        <p:spPr>
          <a:xfrm>
            <a:off x="6397560" y="6130800"/>
            <a:ext cx="2367000" cy="2685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4"/>
          <p:cNvSpPr/>
          <p:nvPr/>
        </p:nvSpPr>
        <p:spPr>
          <a:xfrm>
            <a:off x="6504480" y="5430960"/>
            <a:ext cx="11926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・総費用：            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内訳</a:t>
            </a:r>
            <a:r>
              <a:rPr b="0" lang="zh-CN" sz="9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（内訳があればここに）</a:t>
            </a: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5"/>
          <p:cNvSpPr/>
          <p:nvPr/>
        </p:nvSpPr>
        <p:spPr>
          <a:xfrm>
            <a:off x="7353720" y="61182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期待される効果を具体的に、分かりやすく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2"/>
          <p:cNvSpPr/>
          <p:nvPr/>
        </p:nvSpPr>
        <p:spPr>
          <a:xfrm>
            <a:off x="2235240" y="44280"/>
            <a:ext cx="46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「３要素７ステップで書く、企画書テンプレート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50920" y="2333520"/>
            <a:ext cx="8642160" cy="302436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06360" y="5527800"/>
            <a:ext cx="416736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630680" y="5540400"/>
            <a:ext cx="417204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50920" y="449280"/>
            <a:ext cx="8642160" cy="4446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47680" y="5433840"/>
            <a:ext cx="8642160" cy="122400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71600" y="54612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１．提案タイトル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847800" y="23605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４．実施方法・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461160" y="551664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５．スケジュー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5176800" y="55530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６．費用・効果予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390600" y="542880"/>
            <a:ext cx="8429400" cy="2872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561240" y="101772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２．提案ポイ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250920" y="965160"/>
            <a:ext cx="8642160" cy="1224000"/>
          </a:xfrm>
          <a:prstGeom prst="rect">
            <a:avLst/>
          </a:prstGeom>
          <a:noFill/>
          <a:ln w="2844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4643280" y="1038240"/>
            <a:ext cx="415800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395280" y="1038240"/>
            <a:ext cx="410544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4918320" y="10256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３．対象特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6012000" y="2610000"/>
            <a:ext cx="2809800" cy="266544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296280" y="6648480"/>
            <a:ext cx="45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</a:rPr>
              <a:t>添付資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9"/>
          <p:cNvSpPr/>
          <p:nvPr/>
        </p:nvSpPr>
        <p:spPr>
          <a:xfrm rot="10800000">
            <a:off x="2676240" y="2248920"/>
            <a:ext cx="3671640" cy="215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0"/>
          <p:cNvSpPr/>
          <p:nvPr/>
        </p:nvSpPr>
        <p:spPr>
          <a:xfrm>
            <a:off x="1557360" y="5553000"/>
            <a:ext cx="5156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3341880" y="550800"/>
            <a:ext cx="40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提案の名前を書く。短い言葉、魅力的な言葉で強い印象を与え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855720" y="1265400"/>
            <a:ext cx="146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提案する内容の特徴を３項目程度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4859280" y="1301760"/>
            <a:ext cx="39927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教科書体"/>
              </a:rPr>
              <a:t>（属性別、生活レベル、ライフスタイル、趣味、所有、見込み客な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教科書体"/>
              </a:rPr>
              <a:t>　ポイントを絞って分かりやすく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1011600" y="2643120"/>
            <a:ext cx="137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サブ・タイトルを短い言葉で、 タイトルと連動させる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601200" y="3041640"/>
            <a:ext cx="188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方法</a:t>
            </a: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/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内容はポイントを絞って分かりやすく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4311360" y="264780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サブ・タイトルを短い言葉で、タイトルと連動させる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3442320" y="3051000"/>
            <a:ext cx="200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方法</a:t>
            </a: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/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内容はポイントを絞って　分かりやすく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129080" y="264780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サブ・タイトルを短い言葉で、タイトルと連動させる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6236640" y="3086280"/>
            <a:ext cx="188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方法</a:t>
            </a: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/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内容はポイントを絞って分かりやすく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1011240" y="574056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教科書体"/>
              </a:rPr>
              <a:t>（準備期間から実施期間、フォローが必要な場合はフォロー期間まで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5191920" y="5769000"/>
            <a:ext cx="1704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教科書体"/>
              </a:rPr>
              <a:t>（費用は総費用、詳細がある場合は別紙に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HGP教科書体"/>
              </a:rPr>
              <a:t>　期待される効果は具体的に、分かりやすく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2"/>
          <p:cNvSpPr/>
          <p:nvPr/>
        </p:nvSpPr>
        <p:spPr>
          <a:xfrm>
            <a:off x="1913760" y="6649920"/>
            <a:ext cx="45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補足する資料などがあれば、タイトルを明記し、資料を添付する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3"/>
          <p:cNvSpPr/>
          <p:nvPr/>
        </p:nvSpPr>
        <p:spPr>
          <a:xfrm>
            <a:off x="2449440" y="-23760"/>
            <a:ext cx="42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「実施内容を書く、提案書テンプレート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4"/>
          <p:cNvSpPr/>
          <p:nvPr/>
        </p:nvSpPr>
        <p:spPr>
          <a:xfrm>
            <a:off x="307800" y="2610000"/>
            <a:ext cx="2808360" cy="266544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5"/>
          <p:cNvSpPr/>
          <p:nvPr/>
        </p:nvSpPr>
        <p:spPr>
          <a:xfrm>
            <a:off x="3170160" y="2610000"/>
            <a:ext cx="2808360" cy="266544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6"/>
          <p:cNvSpPr/>
          <p:nvPr/>
        </p:nvSpPr>
        <p:spPr>
          <a:xfrm>
            <a:off x="382680" y="2657520"/>
            <a:ext cx="2638440" cy="2397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7"/>
          <p:cNvSpPr/>
          <p:nvPr/>
        </p:nvSpPr>
        <p:spPr>
          <a:xfrm>
            <a:off x="3260880" y="2662200"/>
            <a:ext cx="2638440" cy="2397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8"/>
          <p:cNvSpPr/>
          <p:nvPr/>
        </p:nvSpPr>
        <p:spPr>
          <a:xfrm>
            <a:off x="6094440" y="2662200"/>
            <a:ext cx="2638440" cy="2397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9"/>
          <p:cNvSpPr/>
          <p:nvPr/>
        </p:nvSpPr>
        <p:spPr>
          <a:xfrm>
            <a:off x="601560" y="1279440"/>
            <a:ext cx="3816360" cy="792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0"/>
          <p:cNvSpPr/>
          <p:nvPr/>
        </p:nvSpPr>
        <p:spPr>
          <a:xfrm>
            <a:off x="4859280" y="1279440"/>
            <a:ext cx="3816360" cy="792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1"/>
          <p:cNvSpPr/>
          <p:nvPr/>
        </p:nvSpPr>
        <p:spPr>
          <a:xfrm>
            <a:off x="371520" y="2951280"/>
            <a:ext cx="2663640" cy="2251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2"/>
          <p:cNvSpPr/>
          <p:nvPr/>
        </p:nvSpPr>
        <p:spPr>
          <a:xfrm>
            <a:off x="3257640" y="2963880"/>
            <a:ext cx="2663640" cy="2251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3"/>
          <p:cNvSpPr/>
          <p:nvPr/>
        </p:nvSpPr>
        <p:spPr>
          <a:xfrm>
            <a:off x="6094440" y="2954160"/>
            <a:ext cx="2663640" cy="2251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4"/>
          <p:cNvSpPr/>
          <p:nvPr/>
        </p:nvSpPr>
        <p:spPr>
          <a:xfrm rot="5400000">
            <a:off x="4123080" y="1494720"/>
            <a:ext cx="934920" cy="142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5"/>
          <p:cNvSpPr/>
          <p:nvPr/>
        </p:nvSpPr>
        <p:spPr>
          <a:xfrm>
            <a:off x="539640" y="5759280"/>
            <a:ext cx="3816360" cy="792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6"/>
          <p:cNvSpPr/>
          <p:nvPr/>
        </p:nvSpPr>
        <p:spPr>
          <a:xfrm>
            <a:off x="4859280" y="5778360"/>
            <a:ext cx="3816360" cy="792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7"/>
          <p:cNvSpPr/>
          <p:nvPr/>
        </p:nvSpPr>
        <p:spPr>
          <a:xfrm rot="10800000">
            <a:off x="2724120" y="5418000"/>
            <a:ext cx="3672000" cy="216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8"/>
          <p:cNvSpPr/>
          <p:nvPr/>
        </p:nvSpPr>
        <p:spPr>
          <a:xfrm rot="5400000">
            <a:off x="4132800" y="6030000"/>
            <a:ext cx="934920" cy="142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9"/>
          <p:cNvSpPr/>
          <p:nvPr/>
        </p:nvSpPr>
        <p:spPr>
          <a:xfrm>
            <a:off x="1412640" y="265284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サブ・タイトルを短い言葉で、タイトルと連動させる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0"/>
          <p:cNvSpPr/>
          <p:nvPr/>
        </p:nvSpPr>
        <p:spPr>
          <a:xfrm>
            <a:off x="4317840" y="265284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サブ・タイトルを短い言葉で、タイトルと連動させる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1"/>
          <p:cNvSpPr/>
          <p:nvPr/>
        </p:nvSpPr>
        <p:spPr>
          <a:xfrm>
            <a:off x="3482280" y="3041640"/>
            <a:ext cx="188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方法</a:t>
            </a: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/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内容はポイントを絞って分かりやすく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601200" y="3041640"/>
            <a:ext cx="188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方法</a:t>
            </a:r>
            <a:r>
              <a:rPr b="0" lang="en-US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/</a:t>
            </a:r>
            <a:r>
              <a:rPr b="0" lang="zh-CN" sz="1000" spc="-1" strike="noStrike">
                <a:solidFill>
                  <a:srgbClr val="000000"/>
                </a:solidFill>
                <a:latin typeface="HGP教科書体"/>
                <a:ea typeface="HGP教科書体"/>
              </a:rPr>
              <a:t>内容はポイントを絞って分かりやすく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9:47:34Z</dcterms:created>
  <dc:creator>tomita shinzi</dc:creator>
  <dc:description/>
  <dc:language>en-US</dc:language>
  <cp:lastModifiedBy>tomita shinzi</cp:lastModifiedBy>
  <dcterms:modified xsi:type="dcterms:W3CDTF">2011-07-04T04:43:10Z</dcterms:modified>
  <cp:revision>3</cp:revision>
  <dc:subject/>
  <dc:title>スライド 1</dc:title>
</cp:coreProperties>
</file>