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5849938" cy="850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34E-5A36-41C8-8F36-C7917D1D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AEC-A52F-46DF-9D09-7430CCC7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147-6346-46C3-B021-E1232AD1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1A2-69AB-49B1-91AE-6C4E1258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875-27DE-4376-A583-88612F2E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61C-59B0-411F-B05D-84B4FCD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8BE-017A-4726-BB27-D116490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050-1575-40F4-B410-AE7FAFD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4DD-0008-47FF-8D1C-1425A34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343-E084-481A-BC0C-6D601CF5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190-FD8B-4A0B-BB4B-50E8E53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207-C2EB-49C5-95B1-99506E95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6B8C-6909-4E6E-8051-2A2D97A4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289240"/>
            <a:ext cx="8642160" cy="432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642160" cy="4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3080" y="50148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：提案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2906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：提案アイディ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1160" y="982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：提案目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20880"/>
            <a:ext cx="86421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2000" y="993600"/>
            <a:ext cx="278928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993600"/>
            <a:ext cx="267948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993600"/>
            <a:ext cx="280800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07480" y="993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：対象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34920"/>
            <a:ext cx="259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アイディア提案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7480" y="-36360"/>
            <a:ext cx="34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サンプル３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タイプⅠ　チャート形式・基本スタイル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" y="6599160"/>
            <a:ext cx="323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補足する資料があれば、タイトル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2735280" y="2215800"/>
            <a:ext cx="3672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25120" y="53640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魅力的な言葉で印象づけ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080" y="1184400"/>
            <a:ext cx="107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する目的を具体的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19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属性、生活レベル、ライフスタイル、趣味、所有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見込み客など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8640" y="28400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87000" y="28400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55360" y="28400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61800" y="28400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19360" y="28400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87720" y="28400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0560" y="54039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明確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61801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記号でも可、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◎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57480" y="54021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明確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81240" y="6178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記号でも可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◎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7400" y="53848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明確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1160" y="61610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記号でも可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◎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46680" y="539424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明確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0440" y="61610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記号でも可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◎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95960" y="54021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明確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0080" y="6168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記号でも可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◎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1960" y="54021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明確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05720" y="6178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記号でも可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◎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14840" y="981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３：実施時期・場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6560" y="11844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実施時期は日時を明記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5720" y="132876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実施場所は具体的に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571840"/>
            <a:ext cx="395280" cy="26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200" y="259092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提案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841480"/>
            <a:ext cx="395280" cy="2544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160" y="3716280"/>
            <a:ext cx="317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実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386320"/>
            <a:ext cx="395280" cy="792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5080" y="55897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お薦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理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6175440"/>
            <a:ext cx="395280" cy="374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6560" y="6165720"/>
            <a:ext cx="33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9280" y="2571840"/>
            <a:ext cx="1295280" cy="26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5880" y="26082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タイトルを短い言葉で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68560" y="2571840"/>
            <a:ext cx="1295280" cy="26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7840" y="2571840"/>
            <a:ext cx="1295280" cy="26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67120" y="2571840"/>
            <a:ext cx="1295640" cy="26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07040" y="2571840"/>
            <a:ext cx="1295640" cy="26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2800" y="2571840"/>
            <a:ext cx="1295280" cy="26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928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988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7000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916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168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892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841480"/>
            <a:ext cx="84279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5952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676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944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5797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433840"/>
            <a:ext cx="84279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6175440"/>
            <a:ext cx="84279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565360"/>
            <a:ext cx="8439120" cy="398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36680" y="26082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タイトルを短い言葉で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5960" y="26082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タイトルを短い言葉で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9400" y="26082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タイトルを短い言葉で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4920" y="26082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タイトルを短い言葉で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13280" y="260820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タイトルを短い言葉で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0520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692280"/>
            <a:ext cx="2806920" cy="58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32000" y="692280"/>
            <a:ext cx="2806920" cy="58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24680" y="692280"/>
            <a:ext cx="2806560" cy="587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1440" y="6922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社会環境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2708280"/>
            <a:ext cx="2519280" cy="1066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000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基本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81200" y="3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３］解決策展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6640" y="413712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の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69120" y="5272200"/>
            <a:ext cx="62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概算費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369120" y="5705640"/>
            <a:ext cx="62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効果予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09840" y="2752560"/>
            <a:ext cx="2590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744600" y="544356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総費用：□□□ 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内訳：○○費用□□□ 円　○○費□□□ 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19640" y="29955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80840" y="6261120"/>
            <a:ext cx="57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添付資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059280" y="34920"/>
            <a:ext cx="280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トータル企画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1880" y="-11160"/>
            <a:ext cx="18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イプⅤ　チャート形式・フリー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3600" y="251784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60640" y="250200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70000" y="934920"/>
            <a:ext cx="271764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○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□□□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○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234280" y="1052640"/>
            <a:ext cx="433440" cy="720720"/>
          </a:xfrm>
          <a:custGeom>
            <a:avLst/>
            <a:gdLst>
              <a:gd name="textAreaLeft" fmla="*/ 108360 w 433440"/>
              <a:gd name="textAreaRight" fmla="*/ 325080 w 433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666280" y="1052640"/>
            <a:ext cx="2268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013600" y="1062000"/>
            <a:ext cx="2271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87280" y="5373720"/>
            <a:ext cx="2556000" cy="11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9200" y="5445000"/>
            <a:ext cx="24224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問題点　○○○○○○○○○○○○○○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  ○○○○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課題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　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　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5400000">
            <a:off x="1438920" y="3896280"/>
            <a:ext cx="215640" cy="2160720"/>
          </a:xfrm>
          <a:prstGeom prst="rightArrow">
            <a:avLst>
              <a:gd name="adj1" fmla="val 50000"/>
              <a:gd name="adj2" fmla="val 4405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309840" y="3068640"/>
            <a:ext cx="2590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.□□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□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05080" y="4361040"/>
            <a:ext cx="27352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・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189840" y="4221000"/>
            <a:ext cx="2665080" cy="790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948360" y="4292640"/>
            <a:ext cx="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300720" y="4437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23400" y="4437000"/>
            <a:ext cx="5464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準備期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実施機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フォロー期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48360" y="45514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308720" y="46958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8360" y="48578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31520" y="4230720"/>
            <a:ext cx="161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</a:rPr>
              <a:t>月　　 ○月　　○月　　○月　　○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587052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959520" y="6296040"/>
            <a:ext cx="10951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 □□□□□ 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028000" y="2205000"/>
            <a:ext cx="792000" cy="263520"/>
          </a:xfrm>
          <a:prstGeom prst="downArrowCallout">
            <a:avLst>
              <a:gd name="adj1" fmla="val 75143"/>
              <a:gd name="adj2" fmla="val 75137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028000" y="2463840"/>
            <a:ext cx="792000" cy="244440"/>
          </a:xfrm>
          <a:prstGeom prst="downArrowCallout">
            <a:avLst>
              <a:gd name="adj1" fmla="val 81009"/>
              <a:gd name="adj2" fmla="val 81001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066160" y="2708280"/>
            <a:ext cx="72072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09800" y="1989000"/>
            <a:ext cx="144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249228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908000" y="2421000"/>
            <a:ext cx="28116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87720" y="2276280"/>
            <a:ext cx="2808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463840" y="2060640"/>
            <a:ext cx="1220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5400000">
            <a:off x="4391280" y="2888280"/>
            <a:ext cx="216000" cy="2160360"/>
          </a:xfrm>
          <a:prstGeom prst="rightArrow">
            <a:avLst>
              <a:gd name="adj1" fmla="val 50000"/>
              <a:gd name="adj2" fmla="val 4405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203640" y="4149720"/>
            <a:ext cx="2663640" cy="234000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8400" y="17208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0000" y="196380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84480" y="1987560"/>
            <a:ext cx="144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050920" y="1987560"/>
            <a:ext cx="1800" cy="50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63840" y="1987560"/>
            <a:ext cx="144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320920" y="1987560"/>
            <a:ext cx="144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90920" y="1987560"/>
            <a:ext cx="1440" cy="5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79640" y="2554200"/>
            <a:ext cx="68580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08000" y="1844640"/>
            <a:ext cx="685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0680" y="2673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競合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0000" y="2916360"/>
            <a:ext cx="264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97000" y="380700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先企業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0000" y="4049640"/>
            <a:ext cx="264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58920" y="51069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問題点要約と課題発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8000" y="6922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目的・ねら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241800" y="934920"/>
            <a:ext cx="271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41720" y="14493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1800" y="1692360"/>
            <a:ext cx="277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 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92480" y="2425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基本方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197400" y="6922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実施方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46720" y="934920"/>
            <a:ext cx="192564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□□□□□□□</a:t>
            </a: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①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③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□□□□□□□□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①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①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③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028000" y="3284640"/>
            <a:ext cx="816120" cy="5047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269040" y="397656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展開スケジュ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748720" y="429264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300800" y="429264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308720" y="429264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667640" y="429264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28000" y="429264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388360" y="429264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191280" y="508644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費用・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289240"/>
            <a:ext cx="8642160" cy="432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04640"/>
            <a:ext cx="8642160" cy="4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920" y="23162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：提案アイディ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960" y="97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：提案目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920880"/>
            <a:ext cx="86421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40880" y="974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：対象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0"/>
            <a:ext cx="2094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アイディア提案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960" y="1440"/>
            <a:ext cx="16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サンプル４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タイプⅠ　チャート形式・フリー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2400" y="6597720"/>
            <a:ext cx="30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□□□□□□□□□□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735280" y="2215800"/>
            <a:ext cx="3672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665440"/>
            <a:ext cx="40323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3920" y="2665440"/>
            <a:ext cx="1954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0520" y="2646360"/>
            <a:ext cx="195444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993600"/>
            <a:ext cx="541476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993600"/>
            <a:ext cx="278928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43520" y="1106640"/>
            <a:ext cx="216000" cy="863280"/>
          </a:xfrm>
          <a:prstGeom prst="rightArrow">
            <a:avLst>
              <a:gd name="adj1" fmla="val 50000"/>
              <a:gd name="adj2" fmla="val 5824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080" y="44784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：提案タイトル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○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7280" y="1224000"/>
            <a:ext cx="264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□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□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④□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1216080"/>
            <a:ext cx="2768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期：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□□□□□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場所：□□□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1225440"/>
            <a:ext cx="266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43200" y="9698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３：実施時期・場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27000" y="263700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24560" y="2637000"/>
            <a:ext cx="14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30440" y="26146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2920" y="3057480"/>
            <a:ext cx="223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☆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28920" y="3057480"/>
            <a:ext cx="223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★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0560" y="3044880"/>
            <a:ext cx="2108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★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2920" y="4857840"/>
            <a:ext cx="230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★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28920" y="4857840"/>
            <a:ext cx="212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☆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3044880"/>
            <a:ext cx="2089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☆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844880"/>
            <a:ext cx="2108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★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4844880"/>
            <a:ext cx="2089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★★★★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4149720"/>
            <a:ext cx="647640" cy="503280"/>
          </a:xfrm>
          <a:prstGeom prst="irregularSeal1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5950080"/>
            <a:ext cx="792360" cy="50328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2000" y="3933720"/>
            <a:ext cx="863640" cy="719280"/>
          </a:xfrm>
          <a:custGeom>
            <a:avLst/>
            <a:gdLst>
              <a:gd name="textAreaLeft" fmla="*/ 216000 w 863640"/>
              <a:gd name="textAreaRight" fmla="*/ 648000 w 86364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7440" y="5950080"/>
            <a:ext cx="719280" cy="431640"/>
          </a:xfrm>
          <a:custGeom>
            <a:avLst/>
            <a:gdLst>
              <a:gd name="textAreaLeft" fmla="*/ 168840 w 719280"/>
              <a:gd name="textAreaRight" fmla="*/ 549720 w 71928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997360"/>
            <a:ext cx="1979640" cy="17269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88000"/>
            <a:ext cx="1979640" cy="17272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6680" y="4788000"/>
            <a:ext cx="1979640" cy="17272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997360"/>
            <a:ext cx="1979640" cy="17269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4788000"/>
            <a:ext cx="1979640" cy="17272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77000" y="4788000"/>
            <a:ext cx="1979640" cy="17272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6680" y="2997360"/>
            <a:ext cx="1979640" cy="17269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77000" y="2997360"/>
            <a:ext cx="1979640" cy="17269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3645000"/>
            <a:ext cx="369720" cy="1944720"/>
          </a:xfrm>
          <a:prstGeom prst="leftRightArrow">
            <a:avLst>
              <a:gd name="adj1" fmla="val 50037"/>
              <a:gd name="adj2" fmla="val 305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2360520"/>
            <a:ext cx="864216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6360" y="5554800"/>
            <a:ext cx="416736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30680" y="5567400"/>
            <a:ext cx="41720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76280"/>
            <a:ext cx="8642160" cy="4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7680" y="5460840"/>
            <a:ext cx="86421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7120" y="2647800"/>
            <a:ext cx="198288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3840" y="5731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：提案タイトル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9680" y="23875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：実施方法・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1080" y="5543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６：スケジュー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26040" y="1066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３：提案理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64200" y="5580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７：費用・効果予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104360" y="6011280"/>
            <a:ext cx="935280" cy="14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6400" y="1066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：提案目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992160"/>
            <a:ext cx="86421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1065240"/>
            <a:ext cx="278928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1065240"/>
            <a:ext cx="267948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065240"/>
            <a:ext cx="2808000" cy="1079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34400" y="106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：対象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2647800"/>
            <a:ext cx="198288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638440"/>
            <a:ext cx="198288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99240" y="2638440"/>
            <a:ext cx="198288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34920"/>
            <a:ext cx="259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実施提案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5520" y="7920"/>
            <a:ext cx="16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サンプル７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タイプⅡ　チャート形式・基本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33000" y="6656400"/>
            <a:ext cx="61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補足する資料などがあれば、タイトルを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2716200" y="5335560"/>
            <a:ext cx="3672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2676240" y="2275920"/>
            <a:ext cx="3671640" cy="21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3141720"/>
            <a:ext cx="287640" cy="15825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75080" y="3137040"/>
            <a:ext cx="287280" cy="15825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3141720"/>
            <a:ext cx="287280" cy="15825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7360" y="5580000"/>
            <a:ext cx="5156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608040"/>
            <a:ext cx="116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魅力的な言葉で印象づけ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83160" y="1255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にいたった理由を箇条書きで、明確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述べ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800" y="1257480"/>
            <a:ext cx="107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する目的を具体的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70600" y="1268280"/>
            <a:ext cx="2849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属性や生活レベル、ライフスタイル、趣味、所有、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　見込み客など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720" y="27320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サブ・タイトルを短い言葉で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タイトルと連動させて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8520" y="32367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方法／内容を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0400" y="27464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サブ・タイトルを短い言葉で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タイトルと連動させて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24200" y="32511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方法／内容を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960" y="27464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サブ・タイトルを短い言葉で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タイトルと連動させて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73760" y="32511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方法／内容を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79040" y="27417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サブ・タイトルを短い言葉で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タイトルと連動させて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62840" y="3246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方法／内容はポイントを絞っ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く書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65160" y="573408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準備期間、実施期間を書く。必要ならばフォロー期間も提示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1760" y="5805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費用は総費用を記入。詳細は別紙に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期待される効果は具体的に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2360520"/>
            <a:ext cx="864216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476280"/>
            <a:ext cx="8642160" cy="44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0160" y="5731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：提案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9680" y="23875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：実施方法・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53320" y="1006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３：提案理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20" y="1006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：提案目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992160"/>
            <a:ext cx="86421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6240" y="1006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：対象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34920"/>
            <a:ext cx="266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実施提案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2840" y="-1260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サンプル８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タイプⅡ　チャート形式・フリー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2920" y="652320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□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2716200" y="5335560"/>
            <a:ext cx="3672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2676240" y="2275920"/>
            <a:ext cx="3671640" cy="21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440" y="2703600"/>
            <a:ext cx="4019400" cy="1230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440" y="4005360"/>
            <a:ext cx="4019400" cy="1230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62360" y="2689200"/>
            <a:ext cx="4019760" cy="1230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62360" y="3990960"/>
            <a:ext cx="4019760" cy="1230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70200" y="2997360"/>
            <a:ext cx="777960" cy="517320"/>
          </a:xfrm>
          <a:custGeom>
            <a:avLst/>
            <a:gdLst>
              <a:gd name="textAreaLeft" fmla="*/ 0 w 777960"/>
              <a:gd name="textAreaRight" fmla="*/ 778320 w 77796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78200" y="4446720"/>
            <a:ext cx="647640" cy="215640"/>
          </a:xfrm>
          <a:prstGeom prst="downArrowCallout">
            <a:avLst>
              <a:gd name="adj1" fmla="val 75090"/>
              <a:gd name="adj2" fmla="val 75083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8200" y="4714920"/>
            <a:ext cx="647640" cy="216000"/>
          </a:xfrm>
          <a:prstGeom prst="downArrowCallout">
            <a:avLst>
              <a:gd name="adj1" fmla="val 74965"/>
              <a:gd name="adj2" fmla="val 74958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78200" y="4975200"/>
            <a:ext cx="647640" cy="216000"/>
          </a:xfrm>
          <a:prstGeom prst="downArrowCallout">
            <a:avLst>
              <a:gd name="adj1" fmla="val 74965"/>
              <a:gd name="adj2" fmla="val 74958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01080" y="4437000"/>
            <a:ext cx="350640" cy="720720"/>
          </a:xfrm>
          <a:custGeom>
            <a:avLst/>
            <a:gdLst>
              <a:gd name="textAreaLeft" fmla="*/ 87480 w 350640"/>
              <a:gd name="textAreaRight" fmla="*/ 263160 w 350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59640" y="4437000"/>
            <a:ext cx="1843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12080" y="4446720"/>
            <a:ext cx="1843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27920" y="3068640"/>
            <a:ext cx="649440" cy="216000"/>
          </a:xfrm>
          <a:prstGeom prst="downArrowCallout">
            <a:avLst>
              <a:gd name="adj1" fmla="val 75173"/>
              <a:gd name="adj2" fmla="val 75167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7916760" y="3597120"/>
            <a:ext cx="649440" cy="216000"/>
          </a:xfrm>
          <a:prstGeom prst="downArrowCallout">
            <a:avLst>
              <a:gd name="adj1" fmla="val 75173"/>
              <a:gd name="adj2" fmla="val 75167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85080" y="3300480"/>
            <a:ext cx="7128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54936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○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9120" y="1268280"/>
            <a:ext cx="295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□□□□□□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□□□□□□□□□□□□□□□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10040" y="1268280"/>
            <a:ext cx="304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□□□□□□□□□□□□□□□□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□□□□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0360" y="1273320"/>
            <a:ext cx="3024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□□□□□□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□□□□□□□□□□□□□□□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1720" y="27226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①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2880" y="401796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03840" y="350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2997360"/>
            <a:ext cx="3757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281480"/>
            <a:ext cx="3745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5554800"/>
            <a:ext cx="4222800" cy="109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78200" y="5551560"/>
            <a:ext cx="4221360" cy="1090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56023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６：スケジュー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64200" y="5608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７：費用・効果予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4104360" y="6011280"/>
            <a:ext cx="935280" cy="14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79120" y="5937120"/>
            <a:ext cx="111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新規売上見込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第１期　　○○○○万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第２期　　○○○○万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920" y="58626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6308640"/>
            <a:ext cx="1582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58626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58626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2720" y="58626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9080" y="58626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5080" y="58626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58626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8150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２月　　　　　　３月　　　　　４月　　　　　５月　　　　　６月　　　　　７月　　　　　８月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7840" y="63324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準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78200" y="6305400"/>
            <a:ext cx="15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40040" y="63468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0280" y="5937120"/>
            <a:ext cx="15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売り場づくり費用　○○○万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告知費用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万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総費用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万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3800" y="602136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１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6160" y="602136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２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1680" y="1035000"/>
            <a:ext cx="2808360" cy="1141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52880" y="1035000"/>
            <a:ext cx="2808360" cy="1141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04080" y="1035000"/>
            <a:ext cx="2808000" cy="1141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64040" y="27226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③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57600" y="2997360"/>
            <a:ext cx="3757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・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・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3645000"/>
            <a:ext cx="1727280" cy="576000"/>
          </a:xfrm>
          <a:custGeom>
            <a:avLst/>
            <a:gdLst>
              <a:gd name="textAreaLeft" fmla="*/ 236160 w 1727280"/>
              <a:gd name="textAreaRight" fmla="*/ 1491120 w 1727280"/>
              <a:gd name="textAreaTop" fmla="*/ 0 h 576000"/>
              <a:gd name="textAreaBottom" fmla="*/ 504000 h 576000"/>
            </a:gdLst>
            <a:ahLst/>
            <a:rect l="textAreaLeft" t="textAreaTop" r="textAreaRight" b="textAreaBottom"/>
            <a:pathLst>
              <a:path w="21600" h="21600">
                <a:moveTo>
                  <a:pt x="5653" y="18900"/>
                </a:moveTo>
                <a:lnTo>
                  <a:pt x="5653" y="20925"/>
                </a:lnTo>
                <a:cubicBezTo>
                  <a:pt x="5653" y="21263"/>
                  <a:pt x="5233" y="21600"/>
                  <a:pt x="4813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2953" y="2700"/>
                </a:lnTo>
                <a:lnTo>
                  <a:pt x="2953" y="675"/>
                </a:lnTo>
                <a:cubicBezTo>
                  <a:pt x="2953" y="338"/>
                  <a:pt x="3373" y="0"/>
                  <a:pt x="3793" y="0"/>
                </a:cubicBezTo>
                <a:lnTo>
                  <a:pt x="17807" y="0"/>
                </a:lnTo>
                <a:cubicBezTo>
                  <a:pt x="18227" y="0"/>
                  <a:pt x="18647" y="338"/>
                  <a:pt x="18647" y="675"/>
                </a:cubicBezTo>
                <a:lnTo>
                  <a:pt x="18647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787" y="21600"/>
                </a:lnTo>
                <a:cubicBezTo>
                  <a:pt x="16367" y="21600"/>
                  <a:pt x="15947" y="21263"/>
                  <a:pt x="15947" y="20925"/>
                </a:cubicBezTo>
                <a:lnTo>
                  <a:pt x="15947" y="18900"/>
                </a:lnTo>
                <a:close/>
              </a:path>
              <a:path fill="darkenLess" w="21600" h="21600">
                <a:moveTo>
                  <a:pt x="5653" y="18900"/>
                </a:moveTo>
                <a:lnTo>
                  <a:pt x="5653" y="20925"/>
                </a:lnTo>
                <a:cubicBezTo>
                  <a:pt x="5653" y="20588"/>
                  <a:pt x="5233" y="20250"/>
                  <a:pt x="4813" y="20250"/>
                </a:cubicBezTo>
                <a:lnTo>
                  <a:pt x="3793" y="20250"/>
                </a:lnTo>
                <a:cubicBezTo>
                  <a:pt x="3373" y="20250"/>
                  <a:pt x="2953" y="19913"/>
                  <a:pt x="2953" y="19575"/>
                </a:cubicBezTo>
                <a:cubicBezTo>
                  <a:pt x="2953" y="19238"/>
                  <a:pt x="3373" y="18900"/>
                  <a:pt x="3793" y="18900"/>
                </a:cubicBezTo>
                <a:close/>
              </a:path>
              <a:path fill="darkenLess" w="21600" h="21600">
                <a:moveTo>
                  <a:pt x="15947" y="18900"/>
                </a:moveTo>
                <a:lnTo>
                  <a:pt x="15947" y="20925"/>
                </a:lnTo>
                <a:cubicBezTo>
                  <a:pt x="15947" y="20588"/>
                  <a:pt x="16367" y="20250"/>
                  <a:pt x="16787" y="20250"/>
                </a:cubicBezTo>
                <a:lnTo>
                  <a:pt x="17807" y="20250"/>
                </a:lnTo>
                <a:cubicBezTo>
                  <a:pt x="18227" y="20250"/>
                  <a:pt x="18647" y="19913"/>
                  <a:pt x="18647" y="19575"/>
                </a:cubicBezTo>
                <a:cubicBezTo>
                  <a:pt x="18647" y="19238"/>
                  <a:pt x="18227" y="18900"/>
                  <a:pt x="17807" y="18900"/>
                </a:cubicBezTo>
                <a:close/>
              </a:path>
              <a:path fill="darkenLess" w="21600" h="21600">
                <a:moveTo>
                  <a:pt x="2953" y="19575"/>
                </a:moveTo>
                <a:lnTo>
                  <a:pt x="2953" y="2700"/>
                </a:lnTo>
              </a:path>
              <a:path fill="darkenLess" w="21600" h="21600">
                <a:moveTo>
                  <a:pt x="18647" y="19575"/>
                </a:moveTo>
                <a:lnTo>
                  <a:pt x="18647" y="27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52240" y="3645000"/>
            <a:ext cx="8298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80160" y="401796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④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4281480"/>
            <a:ext cx="3744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8920" y="60199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7280" y="5595840"/>
            <a:ext cx="4138560" cy="100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3120" y="5595840"/>
            <a:ext cx="4138920" cy="100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25840" y="630864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0392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692280"/>
            <a:ext cx="3975120" cy="592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720" y="7160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社会環境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2835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競合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1480" y="4102200"/>
            <a:ext cx="174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先企業状況　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社内提案は自社状況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971640"/>
            <a:ext cx="3816360" cy="622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1881360"/>
            <a:ext cx="3816360" cy="90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2900520"/>
            <a:ext cx="3814920" cy="888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6560" y="4341960"/>
            <a:ext cx="3814920" cy="742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600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基本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03840" y="71604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提案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46760" y="2637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のねらいと考え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6360" y="3841920"/>
            <a:ext cx="87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提案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7840" y="4111560"/>
            <a:ext cx="3814560" cy="2197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6560" y="3087720"/>
            <a:ext cx="3814920" cy="988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7840" y="2205000"/>
            <a:ext cx="381456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57840" y="971640"/>
            <a:ext cx="3814560" cy="299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9800" y="51372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問題点・課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" y="5373720"/>
            <a:ext cx="38149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24440" y="4357800"/>
            <a:ext cx="36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6286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6240" y="2519280"/>
            <a:ext cx="304920" cy="266724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3280" y="-1440"/>
            <a:ext cx="17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イプⅢ　チャート形式・基本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64000" y="34920"/>
            <a:ext cx="1871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戦略提案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16360" y="19605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対象設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6308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６．効果予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2600" y="65898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133992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目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37160" y="97488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に関連のあるものを、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7160" y="189864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に関連のあるものを、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37160" y="31291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に関連のあるものを、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37160" y="437040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に関連のあるものを、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45680" y="54388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問題点は現状分析に基づいて、問題点を明確に述べ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問題点から課題から設定す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9480" y="95256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魅力的な言葉で印象づけ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04160" y="2158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属性や生活レベル、趣味、ライフスタイル、所有など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設定す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09480" y="154620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提案の目的を明確に述べ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55200" y="2924280"/>
            <a:ext cx="12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26480" y="435276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（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414036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明朝"/>
              </a:rPr>
              <a:t>①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45600" y="632304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具体的に明記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62280" y="6595920"/>
            <a:ext cx="22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補足する資料などがあれば、タイトル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7840" y="1581120"/>
            <a:ext cx="3814560" cy="30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4869000"/>
            <a:ext cx="36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34400" y="486576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（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67200" y="46530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明朝"/>
              </a:rPr>
              <a:t>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5430960"/>
            <a:ext cx="36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34400" y="542772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（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67200" y="521496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明朝"/>
              </a:rPr>
              <a:t>③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2360" y="5935680"/>
            <a:ext cx="36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34400" y="5932440"/>
            <a:ext cx="13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（ポイントを絞ってわかりやすく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0" y="571968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明朝"/>
              </a:rPr>
              <a:t>④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62440" y="692280"/>
            <a:ext cx="3975120" cy="592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3920" y="3589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692280"/>
            <a:ext cx="3975120" cy="592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32200" y="681120"/>
            <a:ext cx="4232520" cy="595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70840" y="901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．社会環境動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35360" y="30686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３．競合状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82800" y="306864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．提案先企業状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59280" y="2900520"/>
            <a:ext cx="4008600" cy="850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77200" y="3589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基本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49840" y="719280"/>
            <a:ext cx="267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．提案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49840" y="256536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．提案のねらいと考え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67120" y="387504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．提案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52531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．問題点・課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5516640"/>
            <a:ext cx="3806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3800" y="901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86240" y="2519280"/>
            <a:ext cx="304920" cy="266724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9680" y="-11160"/>
            <a:ext cx="18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イプⅢ　チャート形式・フリー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4920" y="34920"/>
            <a:ext cx="244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戦略提案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56800" y="6323040"/>
            <a:ext cx="22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６．効果予測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0440" y="6558120"/>
            <a:ext cx="163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　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836640"/>
            <a:ext cx="1806480" cy="2087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836640"/>
            <a:ext cx="1806840" cy="2087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4960" y="2997360"/>
            <a:ext cx="1806480" cy="208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997360"/>
            <a:ext cx="1806840" cy="208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765000"/>
            <a:ext cx="381636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2259000" y="4273560"/>
            <a:ext cx="233280" cy="187488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62720" y="4859280"/>
            <a:ext cx="792000" cy="647640"/>
          </a:xfrm>
          <a:prstGeom prst="flowChartOr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3680" y="1117440"/>
            <a:ext cx="201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□□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5516640"/>
            <a:ext cx="3816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問題点　○○○○○○○○○○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課題　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2246040" y="4917960"/>
            <a:ext cx="189000" cy="1874880"/>
          </a:xfrm>
          <a:prstGeom prst="rightArrow">
            <a:avLst>
              <a:gd name="adj1" fmla="val 50000"/>
              <a:gd name="adj2" fmla="val 43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952720"/>
            <a:ext cx="31687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○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□□□□□□□□□□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□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□□□□□□□□□□□□□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□□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92680" y="4197240"/>
            <a:ext cx="2136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○○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77080" y="4149720"/>
            <a:ext cx="2016000" cy="100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35520" y="5210280"/>
            <a:ext cx="2016000" cy="100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86440" y="5200560"/>
            <a:ext cx="2016360" cy="100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22920" y="4152960"/>
            <a:ext cx="2016000" cy="100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56720" y="2949480"/>
            <a:ext cx="863280" cy="720720"/>
          </a:xfrm>
          <a:custGeom>
            <a:avLst/>
            <a:gdLst>
              <a:gd name="textAreaLeft" fmla="*/ 196920 w 863280"/>
              <a:gd name="textAreaRight" fmla="*/ 666360 w 8632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1197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459640" y="1197000"/>
            <a:ext cx="432000" cy="792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131320" y="3165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35320" y="1117440"/>
            <a:ext cx="201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□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3680" y="3278160"/>
            <a:ext cx="201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3278160"/>
            <a:ext cx="201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□□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○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49840" y="1033560"/>
            <a:ext cx="3278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．目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○○○○○○○○○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49840" y="1700280"/>
            <a:ext cx="42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３．対象設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○○○○○○○○○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③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37480" y="4197240"/>
            <a:ext cx="2136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②○○○○○○○○○○○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88000" y="5218200"/>
            <a:ext cx="2136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③○○○○○○○○○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37480" y="5218200"/>
            <a:ext cx="2136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④○○○○○○○○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68840" y="3826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0200" y="712800"/>
            <a:ext cx="2806920" cy="59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47840" y="711360"/>
            <a:ext cx="2808360" cy="59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53120" y="711360"/>
            <a:ext cx="2806560" cy="59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6360" y="7556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社会環境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006560"/>
            <a:ext cx="2627280" cy="766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3227400"/>
            <a:ext cx="2627280" cy="1506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49480" y="255744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50000" y="387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事業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13960" y="387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３］事業展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13400" y="508464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イニシャルコス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16880" y="5516640"/>
            <a:ext cx="163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３年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収益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計画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実施後の３年間の収益予定を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469360" y="4316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提案社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09840" y="5200560"/>
            <a:ext cx="24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422100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329520" y="4365360"/>
            <a:ext cx="2419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93960" y="43657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準備期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販売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8000" y="34862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25080" y="34920"/>
            <a:ext cx="90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事業企画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6000" y="-7920"/>
            <a:ext cx="17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イプⅣ　チャート形式・基本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43280" y="6453360"/>
            <a:ext cx="50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補足する資料などがあれば、タイトル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62680" y="256536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7840" y="98892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社会環境動向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74080" y="32878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事業名を魅力的な言葉で印象づけ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74880" y="518148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わかりやすい言葉で特徴を説明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34680" y="501156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見出し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42680" y="350028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事業の内容を具体的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3320" y="18194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2060640"/>
            <a:ext cx="2627280" cy="79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7840" y="2043000"/>
            <a:ext cx="27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市場・生活者動向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600" y="29052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競合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3156120"/>
            <a:ext cx="2627280" cy="84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7840" y="31384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競合状況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3200" y="4049640"/>
            <a:ext cx="16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先企業状況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社内対案は自社状況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4300560"/>
            <a:ext cx="2627280" cy="712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7840" y="428292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提案先企業状況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840" y="506412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問題点要約と課題発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0920" y="5315040"/>
            <a:ext cx="2627280" cy="12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7840" y="529740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現状分析に基づいて問題点を明確にす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問題点から課題を設定す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64840" y="75564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事業コンセプ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0" y="1006560"/>
            <a:ext cx="2627280" cy="982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6920" y="98892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どのような事業なのか、事業の概念やとらえ方を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わかりやすい言葉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93920" y="1989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0" y="2239920"/>
            <a:ext cx="2627280" cy="714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66920" y="2222640"/>
            <a:ext cx="27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属性や生活レベル、趣味、ライフスタイル、所有など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から設定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44680" y="29750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事業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0240" y="477036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事業の特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8320" y="5002200"/>
            <a:ext cx="2627280" cy="156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09840" y="5724360"/>
            <a:ext cx="24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74880" y="570564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わかりやすい言葉で特徴を説明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34680" y="553572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②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見出し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09840" y="6243480"/>
            <a:ext cx="24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74880" y="622476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わかりやすい言葉で特徴を説明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34680" y="605484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見出し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40600" y="755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販売方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5560" y="1006560"/>
            <a:ext cx="262728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62840" y="988920"/>
            <a:ext cx="26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具体的な販売方法を述べる。既存の販路を活用する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場合は販路名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40600" y="18525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価格体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35560" y="2095560"/>
            <a:ext cx="2627280" cy="685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62840" y="2077920"/>
            <a:ext cx="28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定価や第１次販売先納入価格を明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紹介販売などの場合は紹介者へのコミッション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84880" y="280512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広告・販促方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35560" y="3048120"/>
            <a:ext cx="2627280" cy="812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62840" y="3030480"/>
            <a:ext cx="26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販売に伴う広告や販促活動に伴う諸手法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5960" y="3890880"/>
            <a:ext cx="167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展開スケジュール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発売までの予定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4133880"/>
            <a:ext cx="2627280" cy="735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753400" y="4221000"/>
            <a:ext cx="0" cy="530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19920" y="4221000"/>
            <a:ext cx="0" cy="530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81800" y="4221000"/>
            <a:ext cx="0" cy="530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81800" y="4221000"/>
            <a:ext cx="0" cy="530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86840" y="4221000"/>
            <a:ext cx="0" cy="530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0600" y="49100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収益予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35560" y="5295960"/>
            <a:ext cx="2627280" cy="220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62840" y="5278320"/>
            <a:ext cx="26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開発にかかる費用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05480" y="5721480"/>
            <a:ext cx="2454480" cy="179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05480" y="5900760"/>
            <a:ext cx="540000" cy="57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48360" y="572148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30680" y="5846760"/>
            <a:ext cx="50184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売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経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収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累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05480" y="590076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05480" y="5718240"/>
            <a:ext cx="5400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05480" y="605304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5480" y="618984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05480" y="632448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05480" y="5721480"/>
            <a:ext cx="2457360" cy="7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0" y="572148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234280" y="572148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60760" y="5703840"/>
            <a:ext cx="145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年度　　　○○年度　　　　○○年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05480" y="5846760"/>
            <a:ext cx="540000" cy="57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05480" y="5667480"/>
            <a:ext cx="2454480" cy="179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884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2000" y="703440"/>
            <a:ext cx="2806560" cy="59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59000" y="701640"/>
            <a:ext cx="2808360" cy="59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9840" y="701640"/>
            <a:ext cx="2806560" cy="59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5280" y="71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社会環境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2960640"/>
            <a:ext cx="2590560" cy="126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75040" y="255744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7412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事業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9668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３］事業展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13400" y="502452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イニシャルコス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13760" y="544500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３年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収益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計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4440" y="5300640"/>
            <a:ext cx="2644920" cy="128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35880" y="3589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提案社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56120" y="34920"/>
            <a:ext cx="27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事業企画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2480" y="-3240"/>
            <a:ext cx="185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イプⅣ　チャート形式・フリー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973840" y="256536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7280" y="907920"/>
            <a:ext cx="273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□□□□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○○○○○○○○○○○○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5373720"/>
            <a:ext cx="266544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問題点　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課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○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1432800" y="5085360"/>
            <a:ext cx="215640" cy="1224000"/>
          </a:xfrm>
          <a:prstGeom prst="rightArrow">
            <a:avLst>
              <a:gd name="adj1" fmla="val 50463"/>
              <a:gd name="adj2" fmla="val 63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3030480"/>
            <a:ext cx="25905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②□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③□□□□□□□□□□□□□□□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19640" y="4734000"/>
            <a:ext cx="236664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75280" y="1268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35640" y="83664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73800" y="932040"/>
            <a:ext cx="28872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19640" y="90972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86240" y="1062000"/>
            <a:ext cx="14472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578560" y="13399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46560" y="1268280"/>
            <a:ext cx="14472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62560" y="126828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76880" y="1374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87840" y="907920"/>
            <a:ext cx="14472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400000">
            <a:off x="4355280" y="4725000"/>
            <a:ext cx="215640" cy="1224000"/>
          </a:xfrm>
          <a:prstGeom prst="rightArrow">
            <a:avLst>
              <a:gd name="adj1" fmla="val 50463"/>
              <a:gd name="adj2" fmla="val 63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4383720" y="5373000"/>
            <a:ext cx="216000" cy="1224000"/>
          </a:xfrm>
          <a:prstGeom prst="rightArrow">
            <a:avLst>
              <a:gd name="adj1" fmla="val 50463"/>
              <a:gd name="adj2" fmla="val 63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750080" y="981000"/>
            <a:ext cx="830520" cy="312840"/>
          </a:xfrm>
          <a:prstGeom prst="downArrowCallout">
            <a:avLst>
              <a:gd name="adj1" fmla="val 66375"/>
              <a:gd name="adj2" fmla="val 66369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710480" y="1557360"/>
            <a:ext cx="893880" cy="243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579200">
            <a:off x="8675280" y="990720"/>
            <a:ext cx="157320" cy="706320"/>
          </a:xfrm>
          <a:custGeom>
            <a:avLst/>
            <a:gdLst>
              <a:gd name="textAreaLeft" fmla="*/ 20880 w 157320"/>
              <a:gd name="textAreaRight" fmla="*/ 136440 w 157320"/>
              <a:gd name="textAreaTop" fmla="*/ 123480 h 706320"/>
              <a:gd name="textAreaBottom" fmla="*/ 512280 h 70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4653000"/>
            <a:ext cx="2590560" cy="187164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265800" y="4005360"/>
            <a:ext cx="2627280" cy="790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77080" y="407664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38880" y="4221000"/>
            <a:ext cx="248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83880" y="4216320"/>
            <a:ext cx="4244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準備期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販売開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77120" y="4067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40360" y="4025880"/>
            <a:ext cx="21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年○月　○年○月　○年○月　○年○月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77080" y="4336920"/>
            <a:ext cx="9716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95000" y="4437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7643880" y="2193480"/>
            <a:ext cx="577800" cy="384120"/>
          </a:xfrm>
          <a:prstGeom prst="downArrowCallout">
            <a:avLst>
              <a:gd name="adj1" fmla="val 37609"/>
              <a:gd name="adj2" fmla="val 37605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8078040" y="2157840"/>
            <a:ext cx="577800" cy="455400"/>
          </a:xfrm>
          <a:prstGeom prst="downArrowCallout">
            <a:avLst>
              <a:gd name="adj1" fmla="val 31722"/>
              <a:gd name="adj2" fmla="val 31719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8456400" y="2222280"/>
            <a:ext cx="61272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962840" y="2924280"/>
            <a:ext cx="959040" cy="649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7720" y="518004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費用：□□□ 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内訳：○○費用：□□□ 円　○○費□□□ 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740720" y="3213000"/>
            <a:ext cx="574560" cy="4334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5280" y="177336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7280" y="1962000"/>
            <a:ext cx="27352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□□□□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○○○○○○○○○○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③○○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5280" y="299736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競合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7280" y="3186000"/>
            <a:ext cx="273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□□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5280" y="400536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先企業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7280" y="4194000"/>
            <a:ext cx="273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○○○○○○○○○○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□□□□□□□□□□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5280" y="5056200"/>
            <a:ext cx="178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問題点要約と課題発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32000" y="71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事業コンセプ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94000" y="907920"/>
            <a:ext cx="188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2000" y="1700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94000" y="1889280"/>
            <a:ext cx="264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○○○○○○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○○○○○○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②□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③□□□□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32000" y="269064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事業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32000" y="43894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事業の特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71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販売方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03960" y="907920"/>
            <a:ext cx="1508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41960" y="177336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価格体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03960" y="1962000"/>
            <a:ext cx="1508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40720" y="1293840"/>
            <a:ext cx="830160" cy="263520"/>
          </a:xfrm>
          <a:prstGeom prst="downArrowCallout">
            <a:avLst>
              <a:gd name="adj1" fmla="val 78764"/>
              <a:gd name="adj2" fmla="val 78757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41960" y="285264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広告・販促手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303960" y="3041640"/>
            <a:ext cx="150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・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□□□□□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41960" y="378612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展開スケジュ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843680" y="4067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19960" y="4067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815320" y="4067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41960" y="482760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収益予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30680" y="5803920"/>
            <a:ext cx="50184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売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経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収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累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05480" y="585468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05480" y="5672160"/>
            <a:ext cx="5400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05480" y="600696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05480" y="614376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405480" y="627840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05480" y="5662440"/>
            <a:ext cx="2457360" cy="7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56400" y="5662440"/>
            <a:ext cx="0" cy="7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44000" y="566100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44200" y="5645160"/>
            <a:ext cx="155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年度　　　　○○年度　　　　○○年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40440" y="567540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213600" y="6397560"/>
            <a:ext cx="260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添付資料</a:t>
            </a:r>
            <a:r>
              <a:rPr b="1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□□□□□□□□□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78960" y="5803920"/>
            <a:ext cx="50688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19040" y="5803920"/>
            <a:ext cx="54792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　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　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20320" y="5803920"/>
            <a:ext cx="46584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□□□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9260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200" y="703440"/>
            <a:ext cx="2806920" cy="59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32000" y="701640"/>
            <a:ext cx="2806920" cy="59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24680" y="701640"/>
            <a:ext cx="2806560" cy="59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6360" y="7016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社会環境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5600" y="938160"/>
            <a:ext cx="2587680" cy="690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3179880"/>
            <a:ext cx="2519280" cy="1066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21560" y="3952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基本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81200" y="3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３］解決策展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76720" y="4576680"/>
            <a:ext cx="2519280" cy="1947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369120" y="5127480"/>
            <a:ext cx="62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概算費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69120" y="5805360"/>
            <a:ext cx="62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効果予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94320" y="5372280"/>
            <a:ext cx="2411640" cy="43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44760" y="481644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020000" y="4102200"/>
            <a:ext cx="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00720" y="4292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32640" y="5378400"/>
            <a:ext cx="1136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総費用：            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内訳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内訳があればここに）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291360" y="1150920"/>
            <a:ext cx="24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96480" y="4292640"/>
            <a:ext cx="5464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準備期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実施機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フォロー期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48000" y="3429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27000" y="6369120"/>
            <a:ext cx="62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添付資料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補足する資料などがあれば、タイトル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59280" y="34920"/>
            <a:ext cx="280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トータル企画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03280" y="-1440"/>
            <a:ext cx="17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イプⅤ　チャート形式・基本スタイ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937120" y="251784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68560" y="2502000"/>
            <a:ext cx="212760" cy="2666880"/>
          </a:xfrm>
          <a:prstGeom prst="rightArrow">
            <a:avLst>
              <a:gd name="adj1" fmla="val 50000"/>
              <a:gd name="adj2" fmla="val 43750"/>
            </a:avLst>
          </a:pr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7680" y="934920"/>
            <a:ext cx="14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社会環境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43920" y="32130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名を魅力的な言葉で印象づけ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50120" y="4797360"/>
            <a:ext cx="118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23400" y="4613400"/>
            <a:ext cx="12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明朝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提案名と連動した具体的な名称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32760" y="3429000"/>
            <a:ext cx="118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05120" y="973080"/>
            <a:ext cx="84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明朝"/>
              </a:rPr>
              <a:t>①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60800" y="1150920"/>
            <a:ext cx="146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実施内容を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22560" y="602136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具体的に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3320" y="16732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5600" y="1909800"/>
            <a:ext cx="2587680" cy="690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16800" y="190656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市場・生活者動向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5600" y="26384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競合状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5600" y="2874960"/>
            <a:ext cx="2587680" cy="841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7680" y="2871720"/>
            <a:ext cx="14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競合状況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55480" y="375588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先企業状況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社内提案は自社状況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" y="3992400"/>
            <a:ext cx="2587680" cy="841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8200" y="39895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提案を裏づける提案先状況をポイントを絞っ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箇条書きに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3840" y="48672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問題点要約と課題発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5600" y="5103720"/>
            <a:ext cx="25876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87160" y="5100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現状分析に基づいて問題点を明確にす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問題点から課題を設定す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2920" y="701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目的・ねら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27400" y="938160"/>
            <a:ext cx="2587680" cy="835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77960" y="93492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76640" y="17938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27400" y="2030400"/>
            <a:ext cx="2587680" cy="835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19200" y="20271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属性や生活レベル、趣味、ライフスタイル、所有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から設定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349440" y="290340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基本方針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名称含む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59080" y="433872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の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44760" y="547056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50120" y="5451480"/>
            <a:ext cx="118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23400" y="5267160"/>
            <a:ext cx="12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明朝"/>
              </a:rPr>
              <a:t>②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提案名と連動した具体的な名称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44760" y="614988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50120" y="6130800"/>
            <a:ext cx="118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23400" y="5946840"/>
            <a:ext cx="12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明朝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提案名と連動した具体的な名称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199200" y="701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実施方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199200" y="938160"/>
            <a:ext cx="2587680" cy="2706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91360" y="1990800"/>
            <a:ext cx="24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05120" y="1812960"/>
            <a:ext cx="84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明朝"/>
              </a:rPr>
              <a:t>②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60800" y="1990800"/>
            <a:ext cx="146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実施内容を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91360" y="2886120"/>
            <a:ext cx="24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405120" y="2708280"/>
            <a:ext cx="84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明朝"/>
              </a:rPr>
              <a:t>③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ＭＳ 明朝"/>
              </a:rPr>
              <a:t>（具体的な提案名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0800" y="2886120"/>
            <a:ext cx="146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実施内容をポイントを絞ってわかりやすく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092360" y="3745080"/>
            <a:ext cx="91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２．展開スケジュール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準備と実施、フォロー期間を明記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99200" y="4005360"/>
            <a:ext cx="2587680" cy="834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670960" y="410220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340760" y="410220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67640" y="410220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007480" y="410220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48760" y="4102200"/>
            <a:ext cx="0" cy="676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92720" y="4940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費用・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94320" y="6029280"/>
            <a:ext cx="2411640" cy="279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7:32:00Z</dcterms:created>
  <dc:creator>tomita shinzi</dc:creator>
  <dc:description/>
  <dc:language>en-US</dc:language>
  <cp:lastModifiedBy> </cp:lastModifiedBy>
  <dcterms:modified xsi:type="dcterms:W3CDTF">2008-05-01T09:40:52Z</dcterms:modified>
  <cp:revision>185</cp:revision>
  <dc:subject/>
  <dc:title>スライド 1</dc:title>
</cp:coreProperties>
</file>